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345680" y="769680"/>
            <a:ext cx="4162680" cy="29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51960" y="4002120"/>
            <a:ext cx="555012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dt" idx="12"/>
          </p:nvPr>
        </p:nvSpPr>
        <p:spPr>
          <a:xfrm>
            <a:off x="3881160" y="0"/>
            <a:ext cx="29732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3"/>
          </p:nvPr>
        </p:nvSpPr>
        <p:spPr>
          <a:xfrm>
            <a:off x="-36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14"/>
          </p:nvPr>
        </p:nvSpPr>
        <p:spPr>
          <a:xfrm>
            <a:off x="388116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9498AE-DD5F-4B1D-9469-B9F62AD80163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6"/>
          <p:cNvSpPr/>
          <p:nvPr/>
        </p:nvSpPr>
        <p:spPr>
          <a:xfrm>
            <a:off x="388152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70CEA4-483D-4C12-B811-DCA4AF7CD819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812880" y="770040"/>
            <a:ext cx="5230800" cy="2943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5196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388152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3DB43-C95B-492D-8DCE-576388585619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812880" y="770040"/>
            <a:ext cx="5230800" cy="2943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5196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6"/>
          <p:cNvSpPr/>
          <p:nvPr/>
        </p:nvSpPr>
        <p:spPr>
          <a:xfrm>
            <a:off x="388152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29E9C2-7AF5-45FF-AFEE-E36B815E0717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812880" y="770040"/>
            <a:ext cx="5230800" cy="2943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5196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6"/>
          <p:cNvSpPr/>
          <p:nvPr/>
        </p:nvSpPr>
        <p:spPr>
          <a:xfrm>
            <a:off x="388152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ADCFF-7D9B-4FA8-9BCA-8552292BDDEA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812880" y="770040"/>
            <a:ext cx="5230800" cy="2943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5196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388152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F256A0-D207-43B1-8456-49EDB52F59E7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812880" y="770040"/>
            <a:ext cx="5230800" cy="2943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5196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388152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A209BE-2B3E-4566-A3F0-B0DBD331F106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812880" y="770040"/>
            <a:ext cx="5230800" cy="2943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5196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6"/>
          <p:cNvSpPr/>
          <p:nvPr/>
        </p:nvSpPr>
        <p:spPr>
          <a:xfrm>
            <a:off x="388152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CE45D-45B5-4CE8-9D40-6D3DC85ECB24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812880" y="770040"/>
            <a:ext cx="5230800" cy="2943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5196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6"/>
          <p:cNvSpPr/>
          <p:nvPr/>
        </p:nvSpPr>
        <p:spPr>
          <a:xfrm>
            <a:off x="388152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AF6FD-B5A5-4FF5-9580-EB570A3DDD05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812880" y="770040"/>
            <a:ext cx="5230800" cy="2943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5196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388152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2B81A-4BF3-4E73-81DC-58CBDDDBFD5B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812880" y="770040"/>
            <a:ext cx="5230800" cy="2943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5196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6"/>
          <p:cNvSpPr/>
          <p:nvPr/>
        </p:nvSpPr>
        <p:spPr>
          <a:xfrm>
            <a:off x="388152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F209A-5B46-4864-980D-A9404F661C90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812880" y="770040"/>
            <a:ext cx="5230800" cy="2943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5196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6"/>
          <p:cNvSpPr/>
          <p:nvPr/>
        </p:nvSpPr>
        <p:spPr>
          <a:xfrm>
            <a:off x="388152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954AE5-F93F-45FE-BD99-1C5DEEC1CB2B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812880" y="770040"/>
            <a:ext cx="5230800" cy="2943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5196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2171E-C31A-47D4-90F6-B018F7637C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480" y="370908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E6791-3230-490C-BFEC-7D1A5CBD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48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23232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E8ACA-2DDF-400B-89FC-5A369118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319640" y="1631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029800" y="1631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480" y="3709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4319640" y="3709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8029800" y="3709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7C795-9546-4348-8E9B-1CE97C8A2F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A42AB9-44F3-4CDF-A74D-8F78A8FD52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480" y="1631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FF0D9B-9CC7-43C4-BBAF-42FD74B9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213E04-1FEA-4ED4-8375-7A9C05E0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5E9E15-3F7A-4DDF-8208-280FFAB3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D39B5D-F81F-46FF-AB82-A52FEAB3D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480" y="522360"/>
            <a:ext cx="87076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02FEC5-C099-4306-8A75-2068363FF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C4048-1329-459E-8B1A-51D74052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480" y="1631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20BAB-84EC-41EC-BE92-AC672C56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3232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3BA796-6F61-43A8-A4B0-5E0FE62F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480" y="370908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ACBE64-BC71-4AEC-8737-68D42A86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480" y="370908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704FFE-C1EA-405A-9FE0-6ABFAB3D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48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23232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AB039E-B7BB-4551-9366-694D65B2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19640" y="1631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029800" y="1631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480" y="3709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4319640" y="3709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8029800" y="3709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1F132B-029B-4CFD-9162-F8ACEAAAF1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A9AA-AAFF-4D98-96A0-B74ED48972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480" y="1631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6223-FE77-43DD-9397-C447733B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4251D-6902-4F56-8A15-8EDC6C9E9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327C-1DDD-4228-A752-B33C2C55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4197-E503-4097-9AEE-EEDB16C41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8AB12-03EC-4019-BA3F-150CE9DC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480" y="522360"/>
            <a:ext cx="87076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0A89-6DA9-43B1-872C-17607F49A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48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C6E5-E934-4D01-8405-E0E8AADC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23232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7B30-35CB-4A34-8204-26A58FB6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480" y="370908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C1AD-CF8F-4027-BC55-6B14A3F6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480" y="370908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3046-C938-4007-B8E0-960CC8AC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48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23232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18F4-7CAA-4822-9B4D-1859C5F7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319640" y="1631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029800" y="1631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480" y="3709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4319640" y="3709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8029800" y="3709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C150-1C46-4C48-BD24-6F880E107B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FCCCC5-EE1C-4D1E-A438-F90E69F791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480" y="1631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5ABEC4-7CE5-46FC-9F4A-312021E5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362FDB-F812-47A2-B877-62775F4E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E9DE9-F372-4497-B8C1-391E6686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2385A1-EDE3-4126-B202-CC4AB922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8090AF-C408-4E37-92B2-1E7574BA2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480" y="522360"/>
            <a:ext cx="87076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F9A0CB-EFD1-472D-931A-E6D2D3803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48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ACBC77-CA03-4E25-9DDA-4323CB90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23232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1B1D21-7103-4714-8F4B-8FB65366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70908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0D5E39-449B-4B25-914B-AA30695C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480" y="370908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DA70BD-F217-4161-B18A-9E76F92E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48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23232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C44B2A-450F-4D5A-90FA-E42303C3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319640" y="1631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029800" y="1631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480" y="3709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4319640" y="3709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8029800" y="3709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2E0E8E-8F23-41AF-82E7-C4E86405DC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C64057-022C-4356-9BF9-F244E37F5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6203A-7663-419D-9547-350B5E1AD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09480" y="1631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60FC45-D894-4745-A74C-DA3981F2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D03D45-D9EC-4A39-A66D-AD578066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A3EFA8-93C9-4ADB-B824-60CD327D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FEEC1A-8849-47BC-9A00-C788B36D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609480" y="522360"/>
            <a:ext cx="87076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086ABC-0BDD-425C-9614-DDDA33BB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4BA6DD-74F6-43DA-BA45-876A7FB5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3232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C185C4-D9EA-4D06-A43B-75971B7F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9480" y="370908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AEE72F-FBA8-45F5-BE85-9F5B4459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09480" y="370908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9AAA14-E84A-4D6B-BB16-7CF3C7EE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948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623232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9C8146-1A79-4D65-B28A-6B09B916E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480" y="522360"/>
            <a:ext cx="87076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EEC94-32E6-4598-A5C4-A076E4367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319640" y="1631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8029800" y="1631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09480" y="3709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4319640" y="3709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8029800" y="3709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A8949F-74DA-4BA9-BD5D-2181ACD07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B5945-6A7A-4791-8659-0B884065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3232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13F90-F8C8-460A-8785-46CDABA8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70908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7904A-B168-4F89-AD53-9826F6EC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-7920"/>
            <a:ext cx="12190320" cy="6864480"/>
            <a:chOff x="0" y="-7920"/>
            <a:chExt cx="12190320" cy="6864480"/>
          </a:xfrm>
        </p:grpSpPr>
        <p:sp>
          <p:nvSpPr>
            <p:cNvPr id="1" name="Line 2"/>
            <p:cNvSpPr/>
            <p:nvPr/>
          </p:nvSpPr>
          <p:spPr>
            <a:xfrm>
              <a:off x="9371160" y="0"/>
              <a:ext cx="1217520" cy="685656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" name="Line 3"/>
            <p:cNvSpPr/>
            <p:nvPr/>
          </p:nvSpPr>
          <p:spPr>
            <a:xfrm flipH="1">
              <a:off x="7423200" y="3681360"/>
              <a:ext cx="4765680" cy="31752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9182160" y="-7920"/>
              <a:ext cx="3004920" cy="686448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9604440" y="-7920"/>
              <a:ext cx="2585880" cy="686448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" name="AutoShape 6"/>
            <p:cNvSpPr/>
            <p:nvPr/>
          </p:nvSpPr>
          <p:spPr>
            <a:xfrm>
              <a:off x="8933040" y="3048120"/>
              <a:ext cx="3257280" cy="380844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9334440" y="-7920"/>
              <a:ext cx="2852640" cy="686448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10899720" y="-7920"/>
              <a:ext cx="1289160" cy="686448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10939320" y="-7920"/>
              <a:ext cx="1247760" cy="686448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" name="AutoShape 10"/>
            <p:cNvSpPr/>
            <p:nvPr/>
          </p:nvSpPr>
          <p:spPr>
            <a:xfrm>
              <a:off x="10372680" y="3591000"/>
              <a:ext cx="1816200" cy="326556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" name="AutoShape 11"/>
            <p:cNvSpPr/>
            <p:nvPr/>
          </p:nvSpPr>
          <p:spPr>
            <a:xfrm>
              <a:off x="0" y="4013280"/>
              <a:ext cx="447840" cy="284328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859464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880" y="2160360"/>
            <a:ext cx="859464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880"/>
            <a:ext cx="909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Text Box 15"/>
          <p:cNvSpPr/>
          <p:nvPr/>
        </p:nvSpPr>
        <p:spPr>
          <a:xfrm>
            <a:off x="677880" y="6041880"/>
            <a:ext cx="6297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sldNum" idx="2"/>
          </p:nvPr>
        </p:nvSpPr>
        <p:spPr>
          <a:xfrm>
            <a:off x="8589960" y="6041880"/>
            <a:ext cx="6825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l-PL" sz="900" spc="-1" strike="noStrike">
                <a:solidFill>
                  <a:srgbClr val="898989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308C5F0-3C53-4247-BC82-CFF0A2C7F350}" type="slidenum">
              <a:rPr b="0" lang="pl-PL" sz="900" spc="-1" strike="noStrike">
                <a:solidFill>
                  <a:srgbClr val="898989"/>
                </a:solidFill>
                <a:latin typeface="Times New Roman"/>
                <a:ea typeface="Segoe U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"/>
          <p:cNvGrpSpPr/>
          <p:nvPr/>
        </p:nvGrpSpPr>
        <p:grpSpPr>
          <a:xfrm>
            <a:off x="0" y="-7920"/>
            <a:ext cx="12189960" cy="6864480"/>
            <a:chOff x="0" y="-7920"/>
            <a:chExt cx="12189960" cy="6864480"/>
          </a:xfrm>
        </p:grpSpPr>
        <p:sp>
          <p:nvSpPr>
            <p:cNvPr id="53" name="Line 2"/>
            <p:cNvSpPr/>
            <p:nvPr/>
          </p:nvSpPr>
          <p:spPr>
            <a:xfrm>
              <a:off x="9370800" y="0"/>
              <a:ext cx="1217520" cy="685656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4" name="Line 3"/>
            <p:cNvSpPr/>
            <p:nvPr/>
          </p:nvSpPr>
          <p:spPr>
            <a:xfrm flipH="1">
              <a:off x="7422120" y="3681360"/>
              <a:ext cx="4766040" cy="31752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5" name="Freeform 4"/>
            <p:cNvSpPr/>
            <p:nvPr/>
          </p:nvSpPr>
          <p:spPr>
            <a:xfrm>
              <a:off x="9181800" y="-7920"/>
              <a:ext cx="3004920" cy="686448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6" name="Freeform 5"/>
            <p:cNvSpPr/>
            <p:nvPr/>
          </p:nvSpPr>
          <p:spPr>
            <a:xfrm>
              <a:off x="9604080" y="-7920"/>
              <a:ext cx="2585880" cy="686448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7" name="AutoShape 6"/>
            <p:cNvSpPr/>
            <p:nvPr/>
          </p:nvSpPr>
          <p:spPr>
            <a:xfrm>
              <a:off x="8932320" y="3048120"/>
              <a:ext cx="3257640" cy="380844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8" name="Freeform 7"/>
            <p:cNvSpPr/>
            <p:nvPr/>
          </p:nvSpPr>
          <p:spPr>
            <a:xfrm>
              <a:off x="9334080" y="-7920"/>
              <a:ext cx="2852640" cy="686448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9" name="Freeform 8"/>
            <p:cNvSpPr/>
            <p:nvPr/>
          </p:nvSpPr>
          <p:spPr>
            <a:xfrm>
              <a:off x="10899360" y="-7920"/>
              <a:ext cx="1289160" cy="686448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0" name="Freeform 9"/>
            <p:cNvSpPr/>
            <p:nvPr/>
          </p:nvSpPr>
          <p:spPr>
            <a:xfrm>
              <a:off x="10938960" y="-7920"/>
              <a:ext cx="1247760" cy="686448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1" name="AutoShape 10"/>
            <p:cNvSpPr/>
            <p:nvPr/>
          </p:nvSpPr>
          <p:spPr>
            <a:xfrm>
              <a:off x="10372320" y="3591000"/>
              <a:ext cx="1816200" cy="326556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2" name="AutoShape 11"/>
            <p:cNvSpPr/>
            <p:nvPr/>
          </p:nvSpPr>
          <p:spPr>
            <a:xfrm rot="10800000">
              <a:off x="0" y="1440"/>
              <a:ext cx="841680" cy="56642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859464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880" y="2160360"/>
            <a:ext cx="859464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3"/>
          </p:nvPr>
        </p:nvSpPr>
        <p:spPr>
          <a:xfrm>
            <a:off x="7205400" y="6041880"/>
            <a:ext cx="909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677880" y="6041880"/>
            <a:ext cx="6297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8589960" y="6041880"/>
            <a:ext cx="6825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pl-PL" sz="900" spc="-1" strike="noStrike">
                <a:solidFill>
                  <a:srgbClr val="90c226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D883213-B81C-413C-9228-108D932E89FF}" type="slidenum">
              <a:rPr b="0" lang="pl-PL" sz="900" spc="-1" strike="noStrike">
                <a:solidFill>
                  <a:srgbClr val="90c226"/>
                </a:solidFill>
                <a:latin typeface="Times New Roman"/>
                <a:ea typeface="Segoe U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"/>
          <p:cNvGrpSpPr/>
          <p:nvPr/>
        </p:nvGrpSpPr>
        <p:grpSpPr>
          <a:xfrm>
            <a:off x="0" y="-7920"/>
            <a:ext cx="12190320" cy="6864480"/>
            <a:chOff x="0" y="-7920"/>
            <a:chExt cx="12190320" cy="6864480"/>
          </a:xfrm>
        </p:grpSpPr>
        <p:sp>
          <p:nvSpPr>
            <p:cNvPr id="105" name="Line 2"/>
            <p:cNvSpPr/>
            <p:nvPr/>
          </p:nvSpPr>
          <p:spPr>
            <a:xfrm>
              <a:off x="9371160" y="0"/>
              <a:ext cx="1217520" cy="685656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6" name="Line 3"/>
            <p:cNvSpPr/>
            <p:nvPr/>
          </p:nvSpPr>
          <p:spPr>
            <a:xfrm flipH="1">
              <a:off x="7423200" y="3681360"/>
              <a:ext cx="4765680" cy="31752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7" name="Freeform 4"/>
            <p:cNvSpPr/>
            <p:nvPr/>
          </p:nvSpPr>
          <p:spPr>
            <a:xfrm>
              <a:off x="9182160" y="-7920"/>
              <a:ext cx="3004920" cy="686448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8" name="Freeform 5"/>
            <p:cNvSpPr/>
            <p:nvPr/>
          </p:nvSpPr>
          <p:spPr>
            <a:xfrm>
              <a:off x="9604440" y="-7920"/>
              <a:ext cx="2585880" cy="686448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8933040" y="3048120"/>
              <a:ext cx="3257280" cy="380844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0" name="Freeform 7"/>
            <p:cNvSpPr/>
            <p:nvPr/>
          </p:nvSpPr>
          <p:spPr>
            <a:xfrm>
              <a:off x="9334440" y="-7920"/>
              <a:ext cx="2852640" cy="686448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1" name="Freeform 8"/>
            <p:cNvSpPr/>
            <p:nvPr/>
          </p:nvSpPr>
          <p:spPr>
            <a:xfrm>
              <a:off x="10899720" y="-7920"/>
              <a:ext cx="1289160" cy="686448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2" name="Freeform 9"/>
            <p:cNvSpPr/>
            <p:nvPr/>
          </p:nvSpPr>
          <p:spPr>
            <a:xfrm>
              <a:off x="10939320" y="-7920"/>
              <a:ext cx="1247760" cy="686448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3" name="AutoShape 10"/>
            <p:cNvSpPr/>
            <p:nvPr/>
          </p:nvSpPr>
          <p:spPr>
            <a:xfrm>
              <a:off x="10372680" y="3591000"/>
              <a:ext cx="1816200" cy="326556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4" name="AutoShape 11"/>
            <p:cNvSpPr/>
            <p:nvPr/>
          </p:nvSpPr>
          <p:spPr>
            <a:xfrm>
              <a:off x="0" y="4013280"/>
              <a:ext cx="447840" cy="284328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15" name="Text Box 12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859464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880" y="2160360"/>
            <a:ext cx="859464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5"/>
          </p:nvPr>
        </p:nvSpPr>
        <p:spPr>
          <a:xfrm>
            <a:off x="7205400" y="6041880"/>
            <a:ext cx="909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677880" y="6041880"/>
            <a:ext cx="6297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sldNum" idx="6"/>
          </p:nvPr>
        </p:nvSpPr>
        <p:spPr>
          <a:xfrm>
            <a:off x="8589960" y="6041880"/>
            <a:ext cx="6825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pl-PL" sz="900" spc="-1" strike="noStrike">
                <a:solidFill>
                  <a:srgbClr val="90c226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4866E2B-DCCF-49BA-BB36-717C01A3CC6D}" type="slidenum">
              <a:rPr b="0" lang="pl-PL" sz="900" spc="-1" strike="noStrike">
                <a:solidFill>
                  <a:srgbClr val="90c226"/>
                </a:solidFill>
                <a:latin typeface="Times New Roman"/>
                <a:ea typeface="Segoe U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"/>
          <p:cNvGrpSpPr/>
          <p:nvPr/>
        </p:nvGrpSpPr>
        <p:grpSpPr>
          <a:xfrm>
            <a:off x="0" y="-7920"/>
            <a:ext cx="12190320" cy="6864480"/>
            <a:chOff x="0" y="-7920"/>
            <a:chExt cx="12190320" cy="6864480"/>
          </a:xfrm>
        </p:grpSpPr>
        <p:sp>
          <p:nvSpPr>
            <p:cNvPr id="159" name="Line 2"/>
            <p:cNvSpPr/>
            <p:nvPr/>
          </p:nvSpPr>
          <p:spPr>
            <a:xfrm>
              <a:off x="9371160" y="0"/>
              <a:ext cx="1217520" cy="685656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60" name="Line 3"/>
            <p:cNvSpPr/>
            <p:nvPr/>
          </p:nvSpPr>
          <p:spPr>
            <a:xfrm flipH="1">
              <a:off x="7423200" y="3681360"/>
              <a:ext cx="4765680" cy="31752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61" name="Freeform 4"/>
            <p:cNvSpPr/>
            <p:nvPr/>
          </p:nvSpPr>
          <p:spPr>
            <a:xfrm>
              <a:off x="9182160" y="-7920"/>
              <a:ext cx="3004920" cy="686448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62" name="Freeform 5"/>
            <p:cNvSpPr/>
            <p:nvPr/>
          </p:nvSpPr>
          <p:spPr>
            <a:xfrm>
              <a:off x="9604440" y="-7920"/>
              <a:ext cx="2585880" cy="686448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63" name="AutoShape 6"/>
            <p:cNvSpPr/>
            <p:nvPr/>
          </p:nvSpPr>
          <p:spPr>
            <a:xfrm>
              <a:off x="8933040" y="3048120"/>
              <a:ext cx="3257280" cy="380844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64" name="Freeform 7"/>
            <p:cNvSpPr/>
            <p:nvPr/>
          </p:nvSpPr>
          <p:spPr>
            <a:xfrm>
              <a:off x="9334440" y="-7920"/>
              <a:ext cx="2852640" cy="686448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65" name="Freeform 8"/>
            <p:cNvSpPr/>
            <p:nvPr/>
          </p:nvSpPr>
          <p:spPr>
            <a:xfrm>
              <a:off x="10899720" y="-7920"/>
              <a:ext cx="1289160" cy="686448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66" name="Freeform 9"/>
            <p:cNvSpPr/>
            <p:nvPr/>
          </p:nvSpPr>
          <p:spPr>
            <a:xfrm>
              <a:off x="10939320" y="-7920"/>
              <a:ext cx="1247760" cy="686448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67" name="AutoShape 10"/>
            <p:cNvSpPr/>
            <p:nvPr/>
          </p:nvSpPr>
          <p:spPr>
            <a:xfrm>
              <a:off x="10372680" y="3591000"/>
              <a:ext cx="1816200" cy="326556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68" name="AutoShape 11"/>
            <p:cNvSpPr/>
            <p:nvPr/>
          </p:nvSpPr>
          <p:spPr>
            <a:xfrm>
              <a:off x="0" y="4013280"/>
              <a:ext cx="447840" cy="284328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69" name="Text Box 12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859464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880" y="2160360"/>
            <a:ext cx="859464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7"/>
          </p:nvPr>
        </p:nvSpPr>
        <p:spPr>
          <a:xfrm>
            <a:off x="7205400" y="6041880"/>
            <a:ext cx="909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Text Box 17"/>
          <p:cNvSpPr/>
          <p:nvPr/>
        </p:nvSpPr>
        <p:spPr>
          <a:xfrm>
            <a:off x="677880" y="6041880"/>
            <a:ext cx="6297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8"/>
          </p:nvPr>
        </p:nvSpPr>
        <p:spPr>
          <a:xfrm>
            <a:off x="8589960" y="6041880"/>
            <a:ext cx="6825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pl-PL" sz="900" spc="-1" strike="noStrike">
                <a:solidFill>
                  <a:srgbClr val="90c226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2D46699-575E-401F-9EC4-8DDF76B65E43}" type="slidenum">
              <a:rPr b="0" lang="pl-PL" sz="900" spc="-1" strike="noStrike">
                <a:solidFill>
                  <a:srgbClr val="90c226"/>
                </a:solidFill>
                <a:latin typeface="Times New Roman"/>
                <a:ea typeface="Segoe U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219356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09480" y="1631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9"/>
          </p:nvPr>
        </p:nvSpPr>
        <p:spPr>
          <a:xfrm>
            <a:off x="609120" y="6246720"/>
            <a:ext cx="283860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0"/>
          </p:nvPr>
        </p:nvSpPr>
        <p:spPr>
          <a:xfrm>
            <a:off x="4170240" y="6246720"/>
            <a:ext cx="3864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1"/>
          </p:nvPr>
        </p:nvSpPr>
        <p:spPr>
          <a:xfrm>
            <a:off x="8741880" y="6246720"/>
            <a:ext cx="283860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685AC-41B5-43B2-B539-A8028846628B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www.erc.edu/" TargetMode="External"/><Relationship Id="rId2" Type="http://schemas.openxmlformats.org/officeDocument/2006/relationships/hyperlink" Target="http://www.prc.krakow.pl/" TargetMode="External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1"/>
          <p:cNvSpPr/>
          <p:nvPr/>
        </p:nvSpPr>
        <p:spPr>
          <a:xfrm>
            <a:off x="1506600" y="2405160"/>
            <a:ext cx="77677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900"/>
            </a:br>
            <a:r>
              <a:rPr b="0" lang="pl-PL" sz="4900" spc="-1" strike="noStrike">
                <a:solidFill>
                  <a:srgbClr val="90c226"/>
                </a:solidFill>
                <a:latin typeface="Arial"/>
                <a:ea typeface="WenQuanYi Zen Hei"/>
              </a:rPr>
              <a:t>Algorytm postępowania na miejscu wypadku</a:t>
            </a:r>
            <a:endParaRPr b="0" lang="en-US" sz="4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1506600" y="4095720"/>
            <a:ext cx="776772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1"/>
          <p:cNvSpPr/>
          <p:nvPr/>
        </p:nvSpPr>
        <p:spPr>
          <a:xfrm>
            <a:off x="677880" y="609480"/>
            <a:ext cx="85964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WenQuanYi Zen Hei"/>
              </a:rPr>
              <a:t>Bibliografia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WenQuanYi Zen Hei"/>
              </a:rPr>
              <a:t> </a:t>
            </a:r>
            <a:br>
              <a:rPr sz="3200"/>
            </a:b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WenQuanYi Zen Hei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677880" y="2160720"/>
            <a:ext cx="859644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31640" indent="-323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 u="sng">
                <a:solidFill>
                  <a:srgbClr val="ccccff"/>
                </a:solidFill>
                <a:uFillTx/>
                <a:latin typeface="Arial"/>
                <a:ea typeface="WenQuanYi Zen Hei"/>
                <a:hlinkClick r:id="rId1"/>
              </a:rPr>
              <a:t>www.erc.edu/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31640" indent="-323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 u="sng">
                <a:solidFill>
                  <a:srgbClr val="ccccff"/>
                </a:solidFill>
                <a:uFillTx/>
                <a:latin typeface="Arial"/>
                <a:ea typeface="WenQuanYi Zen Hei"/>
                <a:hlinkClick r:id="rId2"/>
              </a:rPr>
              <a:t>www.prc.krakow.p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31640" indent="-323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J. Słoma, G. Zając,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Edukacja dla bezpieczeństwa. Żyję i działam bezpiecznie. Podrecznik z ćwiczeniami dla klas 1-3 gimnazjum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. Nowa Era, Warszawa 2009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31640" indent="-323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M. Goniewicz, A.W. Nowa-Kowal, Z. Smutek,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Edukacja dla bezpieczeństwa.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1"/>
          <p:cNvSpPr/>
          <p:nvPr/>
        </p:nvSpPr>
        <p:spPr>
          <a:xfrm>
            <a:off x="677880" y="609480"/>
            <a:ext cx="85964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WenQuanYi Zen Hei"/>
              </a:rPr>
              <a:t>Podsumowani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677880" y="2160720"/>
            <a:ext cx="859644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1"/>
          <p:cNvSpPr/>
          <p:nvPr/>
        </p:nvSpPr>
        <p:spPr>
          <a:xfrm>
            <a:off x="677880" y="609480"/>
            <a:ext cx="85964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  <a:ea typeface="WenQuanYi Zen Hei"/>
              </a:rPr>
              <a:t>Struktura prezentacji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WenQuanYi Zen Hei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677880" y="2160720"/>
            <a:ext cx="859644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zasady udzielania pierwszej pomocy,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31640" indent="-323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charakterystyka łańcucha przeżycia,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31640" indent="-323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numery alarmowe,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31640" indent="-323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algorytm postępowania na miejscu wypadku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1" descr=""/>
          <p:cNvPicPr/>
          <p:nvPr/>
        </p:nvPicPr>
        <p:blipFill>
          <a:blip r:embed="rId1"/>
          <a:srcRect l="0" t="6466" r="0" b="9557"/>
          <a:stretch/>
        </p:blipFill>
        <p:spPr>
          <a:xfrm>
            <a:off x="2160720" y="1511280"/>
            <a:ext cx="7143480" cy="419724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2"/>
          <p:cNvSpPr/>
          <p:nvPr/>
        </p:nvSpPr>
        <p:spPr>
          <a:xfrm>
            <a:off x="677880" y="609480"/>
            <a:ext cx="85964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  <a:ea typeface="WenQuanYi Zen Hei"/>
              </a:rPr>
              <a:t>Zasady udzielania pierwszej pomocy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2435400" y="591192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  <a:ea typeface="WenQuanYi Zen Hei"/>
              </a:rPr>
              <a:t>Złota godzina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6184800" y="59119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  <a:ea typeface="WenQuanYi Zen Hei"/>
              </a:rPr>
              <a:t>Platynowe minuty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1"/>
          <p:cNvSpPr/>
          <p:nvPr/>
        </p:nvSpPr>
        <p:spPr>
          <a:xfrm>
            <a:off x="677880" y="609480"/>
            <a:ext cx="85964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WenQuanYi Zen Hei"/>
              </a:rPr>
              <a:t>Złota godzina </a:t>
            </a:r>
            <a:br>
              <a:rPr sz="3200"/>
            </a:b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WenQuanYi Zen Hei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0" name="Text Box 2"/>
          <p:cNvSpPr/>
          <p:nvPr/>
        </p:nvSpPr>
        <p:spPr>
          <a:xfrm>
            <a:off x="677880" y="2160720"/>
            <a:ext cx="859644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60 minut, w trakcie których poszkodowany powinien się znaleźć w szpitalu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1"/>
          <a:stretch/>
        </p:blipFill>
        <p:spPr>
          <a:xfrm>
            <a:off x="3232080" y="3108240"/>
            <a:ext cx="4753080" cy="31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1"/>
          <p:cNvSpPr/>
          <p:nvPr/>
        </p:nvSpPr>
        <p:spPr>
          <a:xfrm>
            <a:off x="677880" y="609480"/>
            <a:ext cx="85964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WenQuanYi Zen Hei"/>
              </a:rPr>
              <a:t>Platynowe minuty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677880" y="2160720"/>
            <a:ext cx="859644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pierwszych 5 minut, w czasie których należy podjąć zabiegi resuscytacyjne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74" name="Picture 3" descr=""/>
          <p:cNvPicPr/>
          <p:nvPr/>
        </p:nvPicPr>
        <p:blipFill>
          <a:blip r:embed="rId1"/>
          <a:stretch/>
        </p:blipFill>
        <p:spPr>
          <a:xfrm>
            <a:off x="3311640" y="3195720"/>
            <a:ext cx="47718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677880" y="609480"/>
            <a:ext cx="85964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WenQuanYi Zen Hei"/>
              </a:rPr>
              <a:t>Charakterystyka łańcucha przeżycia </a:t>
            </a:r>
            <a:br>
              <a:rPr sz="3200"/>
            </a:b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WenQuanYi Zen Hei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1279440" y="1671480"/>
            <a:ext cx="8474040" cy="38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1"/>
          <p:cNvSpPr/>
          <p:nvPr/>
        </p:nvSpPr>
        <p:spPr>
          <a:xfrm>
            <a:off x="677880" y="609480"/>
            <a:ext cx="85964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WenQuanYi Zen Hei"/>
              </a:rPr>
              <a:t>Numery alarmowe </a:t>
            </a:r>
            <a:br>
              <a:rPr sz="3200"/>
            </a:b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WenQuanYi Zen Hei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677880" y="1249200"/>
            <a:ext cx="3727440" cy="24940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"/>
          <p:cNvPicPr/>
          <p:nvPr/>
        </p:nvPicPr>
        <p:blipFill>
          <a:blip r:embed="rId2"/>
          <a:stretch/>
        </p:blipFill>
        <p:spPr>
          <a:xfrm>
            <a:off x="7746840" y="1249200"/>
            <a:ext cx="3729240" cy="24940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"/>
          <p:cNvPicPr/>
          <p:nvPr/>
        </p:nvPicPr>
        <p:blipFill>
          <a:blip r:embed="rId3"/>
          <a:stretch/>
        </p:blipFill>
        <p:spPr>
          <a:xfrm>
            <a:off x="4405320" y="1252440"/>
            <a:ext cx="3341520" cy="249084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5"/>
          <p:cNvSpPr/>
          <p:nvPr/>
        </p:nvSpPr>
        <p:spPr>
          <a:xfrm>
            <a:off x="676440" y="3762360"/>
            <a:ext cx="33289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  <a:ea typeface="WenQuanYi Zen Hei"/>
              </a:rPr>
              <a:t>999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pogotowie ratunkowe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4405320" y="3760920"/>
            <a:ext cx="33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rebuchet MS"/>
                <a:ea typeface="WenQuanYi Zen Hei"/>
              </a:rPr>
              <a:t>998 </a:t>
            </a:r>
            <a:r>
              <a:rPr b="0" lang="pl-PL" sz="1600" spc="-1" strike="noStrike">
                <a:solidFill>
                  <a:srgbClr val="000000"/>
                </a:solidFill>
                <a:latin typeface="Trebuchet MS"/>
                <a:ea typeface="WenQuanYi Zen Hei"/>
              </a:rPr>
              <a:t>straż pożarna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7746840" y="3760920"/>
            <a:ext cx="37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rebuchet MS"/>
                <a:ea typeface="WenQuanYi Zen Hei"/>
              </a:rPr>
              <a:t>997 </a:t>
            </a:r>
            <a:r>
              <a:rPr b="0" lang="pl-PL" sz="1600" spc="-1" strike="noStrike">
                <a:solidFill>
                  <a:srgbClr val="000000"/>
                </a:solidFill>
                <a:latin typeface="Trebuchet MS"/>
                <a:ea typeface="WenQuanYi Zen Hei"/>
              </a:rPr>
              <a:t>policja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1697040" y="5178600"/>
            <a:ext cx="4616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Trebuchet MS"/>
                <a:ea typeface="WenQuanYi Zen Hei"/>
              </a:rPr>
              <a:t>112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ff0000"/>
                </a:solidFill>
                <a:latin typeface="Trebuchet MS"/>
                <a:ea typeface="WenQuanYi Zen Hei"/>
              </a:rPr>
              <a:t>Centrum Powiadamiania Ratunkowego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85" name="Picture 9" descr=""/>
          <p:cNvPicPr/>
          <p:nvPr/>
        </p:nvPicPr>
        <p:blipFill>
          <a:blip r:embed="rId4"/>
          <a:stretch/>
        </p:blipFill>
        <p:spPr>
          <a:xfrm>
            <a:off x="6931080" y="4330800"/>
            <a:ext cx="3765600" cy="251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1"/>
          <p:cNvSpPr/>
          <p:nvPr/>
        </p:nvSpPr>
        <p:spPr>
          <a:xfrm>
            <a:off x="677880" y="609480"/>
            <a:ext cx="85964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WenQuanYi Zen Hei"/>
              </a:rPr>
              <a:t>Algorytm postępowania na miejscu wypadku </a:t>
            </a:r>
            <a:br>
              <a:rPr sz="3200"/>
            </a:b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WenQuanYi Zen Hei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479520" y="1773360"/>
            <a:ext cx="936144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Ocena sytuacji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31640" indent="-323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Ocena bezpieczeństwa ratownika, poszkodowanego i świadków wypadku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31640" indent="-323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Pierwsza pomoc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31640" indent="-323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Dalsza opieka nad poszkodowanym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31640" indent="-323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Przekazanie informacji o poszkodowanym 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31640" indent="-323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31640" indent="-323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6765840" y="2924280"/>
            <a:ext cx="5016600" cy="334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"/>
          <p:cNvSpPr/>
          <p:nvPr/>
        </p:nvSpPr>
        <p:spPr>
          <a:xfrm>
            <a:off x="677880" y="609480"/>
            <a:ext cx="85964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WenQuanYi Zen Hei"/>
              </a:rPr>
              <a:t>Pytania do prezentacji </a:t>
            </a:r>
            <a:br>
              <a:rPr sz="3200"/>
            </a:b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WenQuanYi Zen Hei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677880" y="2160720"/>
            <a:ext cx="859644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3:47:12Z</dcterms:created>
  <dc:creator>Andrzej Iskrzycki</dc:creator>
  <dc:description/>
  <dc:language>en-US</dc:language>
  <cp:lastModifiedBy>Andrzej Iskrzycki</cp:lastModifiedBy>
  <dcterms:modified xsi:type="dcterms:W3CDTF">2013-08-18T16:59:00Z</dcterms:modified>
  <cp:revision>9</cp:revision>
  <dc:subject/>
  <dc:title> Algorytm postępowania na miejscu wypadku</dc:title>
</cp:coreProperties>
</file>